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C51-DFFC-4422-B337-000D6B42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4C6-83BE-460F-A814-F8C38659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108-F88A-45AD-AA32-846F119C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D2B-9428-4ECD-BE48-FB715718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66AE-13C0-459E-982C-13FB06D4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AC87-BF80-4C0C-92D7-2EB30CCD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EA0D-4917-4F41-B36B-654B727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CA5-DEA2-4216-8AAD-277E846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D400-B7EB-4884-A846-8EE2E88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2DC1-85F4-4643-8C8B-65308B0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33DA-9B5E-453C-8C01-347B1D3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D60-D310-4F2F-8CCA-B7266A3E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B286-8ABC-4E69-9D05-D675E677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0530-C0A8-4716-900F-0D299605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4A80-16E4-4F30-B7EE-8E7411CA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5E3F-32F7-490B-B0D3-F04F0611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35B0-58CC-4EE3-94C7-1504D784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1DAE-18CC-44D9-AC89-1665EC64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4B5C3-757B-44EA-8442-18BB9A4C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D0553-42B1-473C-96F0-EB0CDCB7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CF794-694D-4B38-B4FC-CA625646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36D21-ECF9-4566-A0E4-502E4E1A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28A-2848-4F8F-9BE8-ED8DA653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C9BDF-D32D-45A4-A248-0A48AF4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F104C-2741-4470-9AA3-5B4F1C44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2F38C-0A9E-4CB5-80D3-F8A3CFD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E064-7302-41B4-AFFB-895BE42F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847D-E630-41D8-8831-0C5A4D5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C196-D8B0-4A4C-AD96-2A3F876F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C1E61-2BDC-4B0D-B258-BAB72E83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14EE-CFA9-4209-B92E-EC345708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B733-9A3C-4314-81D1-940D9CB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C486C-C139-40F8-8183-B238A90A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281-7954-4418-9766-7F385019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34527-59DE-4883-8AB7-A4384C96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2B9E-2BEA-46B5-8BC6-8B43693C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81F30-DC4E-4E15-B9A5-4A79CE02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CDAB-727C-4994-BE93-B9D028D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76F3-4135-4206-B03E-B5C5CF41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EFFF-6BDD-46D6-A383-65C9479D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8CEA-BBC2-44CB-B945-3B43028A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7CAA-CCC0-4A9F-9EAA-FD4966BD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0C64-C434-489B-8159-AFD29DDF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F7F2F-EB12-46EF-986F-60FDE0BD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19F-EC18-4942-A1D2-9592BE4D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FF073-AEBD-42E9-90F9-A56F4DA9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5C6BA-FE79-4773-84FB-2B82988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F4AD0-EE66-417C-ACCD-2AA40117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D5914-1F33-49BC-AD57-45230187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618B-E520-4DCC-A7AA-60951927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317D-0733-4F4C-BF0A-759FF51B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D73B4-CB29-44ED-9BBC-A95B69A4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51C8-37AC-4937-98D0-0BA42BA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97B2D-9001-4F7F-95FB-ED911209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93F5-3F54-4145-A947-1DBB63C0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D9E-8F26-4E31-8CDD-B77CD53D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46D1-9BB6-4819-92D0-884004D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0ABA4-C212-4175-879D-BDFCA5B3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F1FE-F1E6-4D38-B266-530F0357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D96D8-4B50-44AC-B42A-0B942759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71678-AFE4-4FBC-BFFF-34B0C20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D489-9BFB-4CF9-9415-C7672C3E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82CB-5849-4D58-B954-457B4075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37AC-C813-47B1-950C-7663CAA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EDFD3-EA9B-4F84-8DA8-1D3D544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C03CF-66A3-4D3D-9E66-D53F53B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A230-87CA-43C8-8F46-30F4441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99E9A-2FE6-4001-93BA-887DDAE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5589C-F29B-4B0E-9247-14ACA1BC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9DCF5-8967-4B86-B070-A0613B36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65F34-061A-4218-B102-3FDA3DBF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CC15E-AFB3-4B15-BB66-3A7781A0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D576D-2D48-4A57-ADA2-2A608270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0CDE-A513-4B5B-ABFD-B1831986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85E92-C01D-4B76-8DCC-60C753FE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DDB66-EABE-44A4-9059-D5BA25B9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1112-9EB5-4E2C-A473-AF806442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5F8-9CA3-40F7-8C1F-D4B6C7E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34C4-E683-445C-AF0A-0A4051AB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441B-2B8C-4055-9875-701050E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8251-F148-4CC2-8A73-775B4ABE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6CE6E-2BA1-496A-8218-2D287208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C70CC-086A-49BA-9167-FD4180FC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1387-11D9-4520-BA0A-EAF97D9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184F-62A9-44B8-9A3A-8B3C54D1A22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EC2-A58D-4DEC-A2E1-42762885267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54E9-6FB9-4C88-AA6D-7848FCC48AB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C8B4-9BAA-4B18-ABCC-0C1B8621A7D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6E00-2E75-4684-82E0-5D8B0C725CE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5077-10A5-457D-AE4B-99E359870E4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1C7A-4AC9-4AFD-87F4-BF0DD89EDFA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ease sit by grad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e yourself a name ta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gin sharing your implementation stor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2428920" y="1982880"/>
            <a:ext cx="42861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bsystems/Nested Syste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undar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puts/Outpu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low/Counterflow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1143000" y="1676520"/>
          <a:ext cx="6545160" cy="4800600"/>
        </p:xfrm>
        <a:graphic>
          <a:graphicData uri="http://schemas.openxmlformats.org/drawingml/2006/table">
            <a:tbl>
              <a:tblPr/>
              <a:tblGrid>
                <a:gridCol w="2181240"/>
                <a:gridCol w="2182680"/>
                <a:gridCol w="2181240"/>
              </a:tblGrid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m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7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sp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3581280" cy="35654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ome basic elements of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 true STEM education should increase students’ understanding of how things work and improve their use of technologi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 algn="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ybe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 algn="r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e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ttp://csusciencemethods.wikispaces.com/file/view/Bybee+2010+STEM+education.pdf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cience, Technology, Engineering, Mat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disciplinary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ine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isy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se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“plant metaphor” is not as important as the idea that the intention is to be highly integra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ve – Based on asymmetries of experti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5181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om “Understanding Scienc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ttp://undsci.berkeley.edu/article/0_0_0/whatisscience_03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520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pplication of science is any use of scientific knowledge for a specific purpose, whether to do more science; to design a product, process, or medical treatment; to develop a new technology; or to predict the impacts of human actio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chnology is any modification of the natural world made to fulfill human needs or desir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gineering is a systematic and often iterative approach to designing objects, processes, and systems to meet human needs and wa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amework for K-12 Science Education, Ch.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8769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14:21Z</dcterms:created>
  <dc:creator>Information  Technology</dc:creator>
  <dc:description/>
  <dc:language>en-US</dc:language>
  <cp:lastModifiedBy>Administrator</cp:lastModifiedBy>
  <dcterms:modified xsi:type="dcterms:W3CDTF">2011-10-10T16:20:44Z</dcterms:modified>
  <cp:revision>294</cp:revision>
  <dc:subject/>
  <dc:title>STEM Instruction</dc:title>
</cp:coreProperties>
</file>